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75538"/>
        <c:axId val="13044626"/>
      </c:barChart>
      <c:catAx>
        <c:axId val="84675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44626"/>
        <c:crosses val="autoZero"/>
        <c:auto val="1"/>
        <c:lblAlgn val="ctr"/>
        <c:lblOffset val="100"/>
        <c:noMultiLvlLbl val="0"/>
      </c:catAx>
      <c:valAx>
        <c:axId val="13044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75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F8D-EAE1-400D-A41E-8B43C93E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CE83-3DA8-4278-A4FA-C92082D9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77F-6515-4103-B359-347EDAF7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725-DA5D-4351-A54A-F28A6D39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AFF4-6605-4506-856E-21644127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F6D-58B5-45CE-876E-BA085074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3A5-72EB-4BD4-BAEF-79E6AAF8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C38-C24C-4943-8A0C-DB291675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53A-BC90-4B25-9D8B-982B7151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EB4-01DC-4F7B-AA86-E947113A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E2C-1AD0-44B0-B159-15B69D09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51C-2BA7-4838-939B-7C1E9FA1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B9878-2EC4-4A98-AFB2-2AAA32BD37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