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65001"/>
        <c:axId val="7398245"/>
      </c:barChart>
      <c:catAx>
        <c:axId val="83965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8245"/>
        <c:crosses val="autoZero"/>
        <c:auto val="1"/>
        <c:lblAlgn val="ctr"/>
        <c:lblOffset val="100"/>
        <c:noMultiLvlLbl val="0"/>
      </c:catAx>
      <c:valAx>
        <c:axId val="7398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65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CE0-EDC1-4D7E-9BFF-0B2014E3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55E-C51F-4893-A7F3-A26689E1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A43-8B3F-4E46-9958-24B7D279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1C7-5634-4D6C-BAA7-01D3C2D7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F0C-383F-4240-98C5-25FE2523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A0E-FBB2-4AE5-AE5C-FB83CFDD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2E1-7847-4FB1-AAF0-23F7983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ECD-8776-48F0-8612-6864805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931-F529-4B14-9A2E-D841D64C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3898-4FED-4462-8579-FB082A7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26E-DCD9-4D8E-92AF-8BBF357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8BD-6465-4946-BBBF-FD7B65A6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08338-444B-40CD-A050-702848BF1A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