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33222"/>
        <c:axId val="83442228"/>
      </c:barChart>
      <c:catAx>
        <c:axId val="52833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42228"/>
        <c:crosses val="autoZero"/>
        <c:auto val="1"/>
        <c:lblAlgn val="ctr"/>
        <c:lblOffset val="100"/>
        <c:noMultiLvlLbl val="0"/>
      </c:catAx>
      <c:valAx>
        <c:axId val="83442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33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DFC-D9AF-431F-B702-264584B2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A3B-3744-4363-A440-F5EBF477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C62-3035-479C-8506-7AA4C83D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9BE-3B25-4A97-B3C4-C39DC237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AC8-AD7C-478E-838E-162C35E1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C78-7F57-4B31-8575-825F62B9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F8E-1811-4C42-AE26-32FF4B8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E9E-ACCD-47FD-8257-2AF83490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010-618A-42B0-B04A-AF0053D4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3A7-56A4-4522-920D-A52B564D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A82-6373-43C1-9FF7-B70D5DB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5EE-2120-4B44-ADAF-DF479C3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F29C0-4383-4FB9-8C7A-0D3EBEFBF5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