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14137"/>
        <c:axId val="46724352"/>
      </c:barChart>
      <c:catAx>
        <c:axId val="96414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24352"/>
        <c:crosses val="autoZero"/>
        <c:auto val="1"/>
        <c:lblAlgn val="ctr"/>
        <c:lblOffset val="100"/>
        <c:noMultiLvlLbl val="0"/>
      </c:catAx>
      <c:valAx>
        <c:axId val="46724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14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0B5-B023-4457-A36B-DAE9C3A4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B40-32D2-46E2-BD34-B165C6B6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02D-A93F-4828-9375-FA893501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475-EE1F-47C1-B656-9C564249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189-06A2-4AFE-B1A1-12857C81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FEB-1227-4F46-BE9B-5C0130DD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4D9-8A5D-448B-A125-8DFDD500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6A1-98A5-43E0-A59E-7070A439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1AD-55DD-48C8-8BD7-28D40964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BC0-D12B-44A1-9E4F-C117D0A5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625-A9F3-412F-9225-0A4F24E4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129-C33B-4A8C-846B-1284E1D3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ACFAF-7D1F-49F0-9B7F-D4876262B0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