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01289"/>
        <c:axId val="87806368"/>
      </c:barChart>
      <c:catAx>
        <c:axId val="36201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06368"/>
        <c:crosses val="autoZero"/>
        <c:auto val="1"/>
        <c:lblAlgn val="ctr"/>
        <c:lblOffset val="100"/>
        <c:noMultiLvlLbl val="0"/>
      </c:catAx>
      <c:valAx>
        <c:axId val="87806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01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30C-19E2-438F-BDE2-440F18DA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257-7331-4573-AF2A-4DA90EFD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79B-E89A-47E8-967C-F8FEAF81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F70-AAAD-41D2-8A3E-6E62161D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49F-A374-4A63-BD50-6F402DF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05D-63D4-4046-8E07-2972865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4E8-9146-48C5-8317-8BFBEFB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A9D-C143-484B-91A4-AED4AA3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E9B-DDC5-4B53-B0C2-DA3D5BF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D04-9946-4035-8DD7-FF472C1B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845-CAB0-4388-B392-CAAA076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E81-2559-409E-894C-A48B3F9B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70699-C094-4051-98AB-9839334397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