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05358"/>
        <c:axId val="68655035"/>
      </c:barChart>
      <c:catAx>
        <c:axId val="88005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55035"/>
        <c:crosses val="autoZero"/>
        <c:auto val="1"/>
        <c:lblAlgn val="ctr"/>
        <c:lblOffset val="100"/>
        <c:noMultiLvlLbl val="0"/>
      </c:catAx>
      <c:valAx>
        <c:axId val="6865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05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192-B437-45A4-B537-0D1D31FE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C47-0A0A-45B5-9B89-CE2ECA89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F46-F953-40C2-8255-9943D00F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077-6580-4585-A350-86C010AC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CAF-CF1B-4376-AD2E-3A7265C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EFD-714C-427D-BD11-4FBDFCF8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811-EC84-4E31-841B-DE46C4A9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A80-DDCF-4AFB-9236-4E00554D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1AE-7448-483D-BFC5-A0910F8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EB6-5645-4C7F-9128-C118AD3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192-9FDB-4580-9208-EADE244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C65-DF18-4518-ACDC-3C0BABB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748B6-0C5C-4677-9140-4C44E3D2D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