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14927"/>
        <c:axId val="18749682"/>
      </c:barChart>
      <c:catAx>
        <c:axId val="61714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49682"/>
        <c:crosses val="autoZero"/>
        <c:auto val="1"/>
        <c:lblAlgn val="ctr"/>
        <c:lblOffset val="100"/>
        <c:noMultiLvlLbl val="0"/>
      </c:catAx>
      <c:valAx>
        <c:axId val="18749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14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AEC-5774-4396-B91C-9C2C4E43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557-4A9E-47CD-AB5B-DF1FF3A7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38B-AB79-4C3E-805C-02E18E61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E45F-C651-461B-AC04-27F259DD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C87-E436-467F-B4EC-BC4A9447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1ADB-4DDC-44AF-8014-19491C73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936-49F1-4AE3-B535-A9036314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26EC-E5F2-41FF-8A33-0524A15B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145-AD24-48C1-BCB3-FC7E3D9B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E71-E299-4BA8-9567-30246334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0A7-950B-4266-AD11-139F949A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0784-93C1-4CCF-A979-158DC957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B038F-7884-48EE-9116-CF490EEDE1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