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986"/>
        <c:axId val="11354025"/>
      </c:barChart>
      <c:catAx>
        <c:axId val="222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4025"/>
        <c:crosses val="autoZero"/>
        <c:auto val="1"/>
        <c:lblAlgn val="ctr"/>
        <c:lblOffset val="100"/>
        <c:noMultiLvlLbl val="0"/>
      </c:catAx>
      <c:valAx>
        <c:axId val="11354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556-1C7C-4437-82D7-AE8AA46E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050-03E8-4E06-9978-A4F826FE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FAD-C307-4ADB-A3C0-A11EE9D6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36C-1810-4472-BA6D-3154737C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BE3-0FA5-4950-8D7E-F4510949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264-F87F-4571-8DAA-839867DD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D54-33F9-4B71-A86D-FD63DC8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421-A19B-454E-A0EE-9EA57181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CCD-7ED8-473A-9434-A7680DC5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E20-F8CB-4D91-9F48-5FF88F4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97F-187C-4A57-9231-399254C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0B1-E232-486C-9099-4A0801E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A26A-1F95-45E2-86E2-69E4F11EDE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