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92975"/>
        <c:axId val="69936204"/>
      </c:barChart>
      <c:catAx>
        <c:axId val="56092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36204"/>
        <c:crosses val="autoZero"/>
        <c:auto val="1"/>
        <c:lblAlgn val="ctr"/>
        <c:lblOffset val="100"/>
        <c:noMultiLvlLbl val="0"/>
      </c:catAx>
      <c:valAx>
        <c:axId val="69936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92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589-3569-49FA-94BB-B9F011A5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B55-62E3-4001-846E-171999BD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98E-DCD1-4EED-8BBA-12C89B93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B38-CF15-41B1-A40E-13C3E2FA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66F-A2F2-4F57-9A8E-24EFA08E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C58-AB1F-4727-9D5A-40E3322E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AA6-AD72-43B8-AC65-43FAEFA3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598-24AC-4BE1-829D-E23073A4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486-74D3-428C-ABE6-74BF5CE9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E2E-20D9-4987-A719-3FD25254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AA8-9692-4648-8BDA-893F9B11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7D3-6328-4D2C-997C-155FA275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0353E-B26E-49F5-AE7D-B3B887EC67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