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378581"/>
        <c:axId val="73204438"/>
      </c:barChart>
      <c:catAx>
        <c:axId val="363785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204438"/>
        <c:crosses val="autoZero"/>
        <c:auto val="1"/>
        <c:lblAlgn val="ctr"/>
        <c:lblOffset val="100"/>
        <c:noMultiLvlLbl val="0"/>
      </c:catAx>
      <c:valAx>
        <c:axId val="732044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3785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FED8-AE66-49E7-9383-09EC61A18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D6CF-193E-463B-88A8-F5E5F4BA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6B6C-39F3-4EEA-82AA-B34F3168D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A1E3-9209-4D66-9E77-C2991926B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767D-91C7-4D77-8B97-98DB3777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A6E9-D46F-4220-8CFA-64A94DD0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8B66-350F-440C-87BB-CF5F7886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F259-E987-4BD7-869E-4F4495C3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3309-A5DB-45CF-8BFA-DAD78BE7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74BA-50D0-4059-9579-0D30053A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D447-E0C6-452E-B25B-15681885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746D-3EA9-42E6-94BF-734797E2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D05ED-198A-40BB-856A-6E9A906360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