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82435"/>
        <c:axId val="27432492"/>
      </c:barChart>
      <c:catAx>
        <c:axId val="49582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32492"/>
        <c:crosses val="autoZero"/>
        <c:auto val="1"/>
        <c:lblAlgn val="ctr"/>
        <c:lblOffset val="100"/>
        <c:noMultiLvlLbl val="0"/>
      </c:catAx>
      <c:valAx>
        <c:axId val="27432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82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05C-F9AF-44DC-99BA-9F06695B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F9C-35D7-4CFE-90BA-3A03CF19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F57-F5A3-4513-893E-270974BD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8D0-20C6-452C-9EEF-4FA0F6C0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3C7-6575-407F-9058-56A2E284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F96-DA34-48C6-8C72-29FFA5B5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669-307F-4EDE-BB32-2668DCA7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CC6-E36A-482F-9055-70D3B800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12F-B1F8-4F92-B342-356493F1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F55-5946-434F-9352-0AA3C456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BDD-70A0-498B-B3ED-08BDC93B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42A-567A-472D-841D-7BBDF49C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4960A-B46F-4EB6-A4EA-CDFE606801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