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713035"/>
        <c:axId val="82814748"/>
      </c:barChart>
      <c:catAx>
        <c:axId val="197130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814748"/>
        <c:crosses val="autoZero"/>
        <c:auto val="1"/>
        <c:lblAlgn val="ctr"/>
        <c:lblOffset val="100"/>
        <c:noMultiLvlLbl val="0"/>
      </c:catAx>
      <c:valAx>
        <c:axId val="828147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7130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DF21-CC19-4961-A951-540F3EB6F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0B8B-0EED-4C23-BD09-1E3D50210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20EF-AFC8-4521-8F11-DE877A78E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A2FA-6A43-4219-B4B8-84E16E96C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7416-2C0A-4711-8638-EFA703CA5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42DC-28D0-49C9-B55B-0A88488EC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4BBC-6BC0-4C8D-89C9-BF62284B8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1C04-1AA1-4541-B8EB-07C7AC86E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BBC1-5035-42E1-B9CB-A44FB0EAB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A47A-1B69-4C8F-8BA5-260122D4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BC16-5644-4C6C-B65E-629891A9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F9A3-4A0F-4828-9691-C822F9883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9DD297-1EEA-4B2A-B864-B37602F6DEA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